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FB6-C5C8-45EA-81DE-97949BB7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4F9-7438-4A8A-B203-9516070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CC5-BF12-4D61-B0A6-43EF6CD6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DD7-A2FB-41AA-92A2-3C6F0761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1A7-64ED-4A23-B663-329C727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067-CF2C-47EA-9A6E-E0DA4093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CAB-7824-4BC4-9D77-0A94E3B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0DB-6DE8-452A-829B-8EF6026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2E5-3FDD-4516-8E9E-92EB1F0A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512-2334-4EC0-8E74-8D3A0F3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BC5-D8B9-4E74-BF4A-60EFB14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CD8-BFBF-4338-86EE-D26663E1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CD7A-BCBE-48DF-8DB5-934A0B868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1447920"/>
          <a:ext cx="234936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3493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8:40:42Z</dcterms:created>
  <dc:creator>rajbabu</dc:creator>
  <dc:description/>
  <dc:language>en-US</dc:language>
  <cp:lastModifiedBy>rajbabu</cp:lastModifiedBy>
  <dcterms:modified xsi:type="dcterms:W3CDTF">2002-07-09T20:08:45Z</dcterms:modified>
  <cp:revision>2</cp:revision>
  <dc:subject/>
  <dc:title>PowerPoint Presentation</dc:title>
</cp:coreProperties>
</file>