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1AF-0E79-47C9-9337-247767F8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38A-03FD-4B37-B5AE-5803EC48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D4F-24CD-4E31-ADD9-442B22ED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B8C7-8C27-41FD-8125-502B34B1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3A5-D4A8-4EBB-A239-1DC0F785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597-A360-432E-A203-B6CAEF8C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545-6DE5-431F-8067-65D7ABD5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64A2-4808-422D-8DA7-54C153C7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76B-21CD-43E5-BDFA-6027CBDB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47E-4F23-4F61-960A-9B3A723F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A23A-D244-4679-8275-4E9A2DA3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B30-DCA4-4849-8719-A2A6EFE3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26D5-2F16-41F5-AC85-3999FB074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80520" y="126036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905120" y="1295280"/>
          <a:ext cx="121896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12189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177360" y="1260360"/>
            <a:ext cx="53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 a complex number in rectangular for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73320" y="181440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magnitude in polar form i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808600" y="1800360"/>
          <a:ext cx="16099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08600" y="1800360"/>
                    <a:ext cx="16099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529400" y="18144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5400" y="239400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ase in polar form 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83400" y="2209680"/>
          <a:ext cx="1658880" cy="8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83400" y="2209680"/>
                    <a:ext cx="165888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74400" y="2936880"/>
            <a:ext cx="55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ly, the polar for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given 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051600" y="3497400"/>
          <a:ext cx="1122480" cy="38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51600" y="3497400"/>
                    <a:ext cx="11224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17:30:38Z</dcterms:created>
  <dc:creator>rajbabu</dc:creator>
  <dc:description/>
  <dc:language>en-US</dc:language>
  <cp:lastModifiedBy>rajbabu</cp:lastModifiedBy>
  <dcterms:modified xsi:type="dcterms:W3CDTF">2002-07-09T17:43:09Z</dcterms:modified>
  <cp:revision>1</cp:revision>
  <dc:subject/>
  <dc:title>PowerPoint Presentation</dc:title>
</cp:coreProperties>
</file>