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59B-393C-42AA-B07E-CD10F377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5E9-8ACE-4DF0-B64F-49F82A45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D28-6421-42D9-8789-4E272C14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EF0-E292-49D3-ACE8-EFDC0085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906-3959-4610-BEBA-B778FDCF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CBC-2D88-4B31-9CB8-11EDE65A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30E-D755-4FA4-AF80-BC1A6205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CAA-ED78-4161-9E07-B04F9FF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DE5-A966-4DA4-9A17-521F27A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FD9-1E4E-4FAD-918A-20A1211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B1F-6935-4CED-9248-8D784103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1DA-3561-4D6F-A21B-9B13FE35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BB7F-919D-4D97-BBDB-DC44D4041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0520" y="1260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905120" y="1295280"/>
          <a:ext cx="12189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1218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177360" y="126036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a complex number in rectangular for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3320" y="1814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magnitude in polar form i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808600" y="1800360"/>
          <a:ext cx="16099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8600" y="1800360"/>
                    <a:ext cx="16099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529400" y="18144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5400" y="239400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ase in polar form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83400" y="2209680"/>
          <a:ext cx="165888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3400" y="2209680"/>
                    <a:ext cx="165888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74400" y="2936880"/>
            <a:ext cx="55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ly, the polar 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iven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51600" y="3497400"/>
          <a:ext cx="112248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1600" y="3497400"/>
                    <a:ext cx="11224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7:30:38Z</dcterms:created>
  <dc:creator>rajbabu</dc:creator>
  <dc:description/>
  <dc:language>en-US</dc:language>
  <cp:lastModifiedBy>rajbabu</cp:lastModifiedBy>
  <dcterms:modified xsi:type="dcterms:W3CDTF">2002-07-09T17:43:09Z</dcterms:modified>
  <cp:revision>1</cp:revision>
  <dc:subject/>
  <dc:title>PowerPoint Presentation</dc:title>
</cp:coreProperties>
</file>