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7647-DA65-4DED-B1D2-039D99127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25F9-D5E2-4E21-829B-38BE32812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3CB9-9997-46B3-BE53-53EC76BD1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9331-4341-4D93-8FFA-B234AC668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79B2-3BC8-4EFC-BEBB-30633BE32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9568-5062-4BCA-91C1-E535B4EEA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6232-D0B8-4449-BE5D-8C8BA99EC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DC67-732E-4B37-9390-C1D61DA95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9CC3-A478-4E76-8B99-E4AC72EBD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4801-042A-45B8-A8C8-C41A2ED13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2000-A63B-48F2-B890-C79119EB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FC63-2B23-4D1C-9521-F0E30F0A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F00BD-BCEC-4E34-B097-53D138E78A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219320" y="1447920"/>
          <a:ext cx="2349360" cy="93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447920"/>
                    <a:ext cx="2349360" cy="93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9T18:40:42Z</dcterms:created>
  <dc:creator>rajbabu</dc:creator>
  <dc:description/>
  <dc:language>en-US</dc:language>
  <cp:lastModifiedBy>rajbabu</cp:lastModifiedBy>
  <dcterms:modified xsi:type="dcterms:W3CDTF">2002-07-09T20:08:45Z</dcterms:modified>
  <cp:revision>2</cp:revision>
  <dc:subject/>
  <dc:title>PowerPoint Presentation</dc:title>
</cp:coreProperties>
</file>