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581-1C10-4912-8C13-D0033F09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82F1-C2C8-40B6-82E4-57A99707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637A-B8A3-4517-86E7-427A4D1B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20C-4808-4087-974E-7784D08E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7EC-17A3-4B25-B488-11E55FA7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5C11-C77E-472C-BBCC-FEE883CA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FE7-A01E-4C42-84D4-F8C5ED5A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449-DD99-426B-AF6D-7509C75B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6BD4-E12C-46C9-B9DD-5811FC38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2600-E3DC-44EE-B51F-95651C1D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E1E-9EE6-489A-A42D-2A76F0E1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FF8-1636-463B-9774-F4EB879E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DF27-ED3D-44A2-9F4B-3B68E40E8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09760" y="474840"/>
          <a:ext cx="4595760" cy="508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760" y="474840"/>
                    <a:ext cx="45957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114800" y="332892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328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57200" y="614520"/>
          <a:ext cx="6400800" cy="449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614520"/>
                    <a:ext cx="640080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33520" y="500040"/>
          <a:ext cx="6553080" cy="391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00040"/>
                    <a:ext cx="655308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3520" y="698400"/>
          <a:ext cx="4724280" cy="39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698400"/>
                    <a:ext cx="472428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3520" y="501480"/>
          <a:ext cx="6324480" cy="559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01480"/>
                    <a:ext cx="632448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3520" y="466560"/>
          <a:ext cx="655308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6560"/>
                    <a:ext cx="655308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33520" y="517680"/>
          <a:ext cx="647676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7680"/>
                    <a:ext cx="647676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7T21:52:20Z</dcterms:created>
  <dc:creator>rajbabu</dc:creator>
  <dc:description/>
  <dc:language>en-US</dc:language>
  <cp:lastModifiedBy>rajbabu</cp:lastModifiedBy>
  <dcterms:modified xsi:type="dcterms:W3CDTF">2002-08-08T17:34:36Z</dcterms:modified>
  <cp:revision>9</cp:revision>
  <dc:subject/>
  <dc:title>PowerPoint Presentation</dc:title>
</cp:coreProperties>
</file>