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F0E-4376-4547-9289-C466724D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078-2E97-49FB-909B-6D866E50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85C-2385-48DF-8965-F0A8E6D5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3F8-0F9A-4202-A746-8673FC01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818-D1BB-48A6-B3A9-4D51B2BD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F2D-6FB3-4CB7-8D71-E64A8EC5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369-76B0-4F27-AFB9-9B758041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14B-CC89-4952-BAF1-4F2DE372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A00-7E09-4984-8ECC-FE72F97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4BA-9C98-4E20-B6C3-4BD3B1B3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332-BA1E-434A-B6F0-1AEF024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FD3-1D5F-4E21-8ABD-67005BF3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4593-6180-4F18-B5CD-D57F2BEB3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649440"/>
                <a:ext cx="5334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5920" y="1523880"/>
                <a:ext cx="559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6320" y="2895480"/>
                <a:ext cx="7221240" cy="32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,0,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 be expressed as sum of sinusoids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320" y="228600"/>
                <a:ext cx="608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320" y="1371600"/>
                <a:ext cx="53337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320" y="2709720"/>
                <a:ext cx="7169040" cy="382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π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3520" y="1523880"/>
                <a:ext cx="4876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380880"/>
                <a:ext cx="4876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52440" y="380880"/>
                <a:ext cx="72626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6019920"/>
                <a:ext cx="4876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8600" y="76320"/>
                <a:ext cx="5181480" cy="15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2400" y="1828800"/>
                <a:ext cx="882468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7240" y="3352680"/>
                <a:ext cx="7638840" cy="34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/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π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320" y="304920"/>
                <a:ext cx="4211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1143000"/>
                <a:ext cx="48988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80" y="2590920"/>
                <a:ext cx="7143840" cy="35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πk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7T21:28:02Z</dcterms:modified>
  <cp:revision>17</cp:revision>
  <dc:subject/>
  <dc:title>PowerPoint Presentation</dc:title>
</cp:coreProperties>
</file>