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773-CC05-4507-826F-164EE0BC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569-30FD-4D9A-9DE0-80796CAF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901D-4B7E-408B-AC94-3B8E8494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443-DEA9-44C1-A6B3-99FCBB7B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D1FC-D328-4B6B-A86E-D7BD3E7F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3736-6246-4076-8CD3-C2DCBE86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165B-80A3-4DD7-B76F-3E26134B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E3D-EDB6-4E82-9E87-CBFBCCAC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D28-0E0A-4244-9B9F-16B9E0BA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B0EA-AEF4-4229-BBF9-2A968B21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6930-B469-44F3-AE26-1789286A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8D42-EAC4-4BF5-9FFB-CFB0B90A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9ABD-80FC-4F0B-BC93-F6DB425F2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914400" y="914400"/>
                <a:ext cx="1905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914400" y="1600200"/>
                <a:ext cx="1600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990720" y="2362320"/>
                <a:ext cx="59436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/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14400" y="3124080"/>
                <a:ext cx="66438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82720" y="4267080"/>
                <a:ext cx="6694560" cy="17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33520" y="533520"/>
                <a:ext cx="6189480" cy="53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ultiplying both sides of Eq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y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k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j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</m:e>
                                        </m:d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 Euler's formula, it can be shown that,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d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n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38280" y="533520"/>
                <a:ext cx="3191040" cy="57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∈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90720" y="990720"/>
                <a:ext cx="5867280" cy="33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fter simplifying the above result, and using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θ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ressed in Polar form, we hav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985680" y="4876920"/>
                <a:ext cx="59533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ressed in rectangular form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80880" y="380880"/>
                <a:ext cx="6400800" cy="47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∈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09760" y="609480"/>
                <a:ext cx="6629400" cy="531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compute other terms,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sSub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milarly,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, Eqn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∧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πk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85800" y="838080"/>
                <a:ext cx="6900840" cy="529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∵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k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dd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371600" y="914400"/>
                <a:ext cx="4876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6:25:30Z</dcterms:created>
  <dc:creator>rajbabu</dc:creator>
  <dc:description/>
  <dc:language>en-US</dc:language>
  <cp:lastModifiedBy>rajbabu</cp:lastModifiedBy>
  <dcterms:modified xsi:type="dcterms:W3CDTF">2002-08-15T15:50:08Z</dcterms:modified>
  <cp:revision>9</cp:revision>
  <dc:subject/>
  <dc:title>PowerPoint Presentation</dc:title>
</cp:coreProperties>
</file>