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E86D-4E5A-47E3-B4D2-54270DCA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C179-1D1B-482B-B3F5-D11C806D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C9DB-ED60-4DEC-90A6-124279FF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083-53F5-4D16-B6E8-D7426DAE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3BF0-C185-457F-9FF2-582290F9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F868-53B0-420A-A394-564E4B19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10D-186B-448F-A082-C4183770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29C2-E257-4AED-A08C-B9D01618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76DF-2135-4157-A4E2-1DDDE77A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C242-0CDD-429B-A839-2747B717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22B-B170-4890-A673-6A235A4E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C78A-2B9A-42C2-8739-E334B2C6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CB57-83F5-4587-B1A7-AC4635818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84280" y="1295280"/>
          <a:ext cx="1689120" cy="2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1295280"/>
                    <a:ext cx="168912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09480" y="1752480"/>
          <a:ext cx="2489400" cy="2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752480"/>
                    <a:ext cx="248940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685800" y="2286000"/>
          <a:ext cx="242568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2286000"/>
                    <a:ext cx="24256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12920" y="2832120"/>
          <a:ext cx="318744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2920" y="2832120"/>
                    <a:ext cx="3187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33520" y="3657600"/>
          <a:ext cx="208260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3657600"/>
                    <a:ext cx="20826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4802040" y="1467000"/>
            <a:ext cx="2943720" cy="1453320"/>
            <a:chOff x="4802040" y="1467000"/>
            <a:chExt cx="2943720" cy="1453320"/>
          </a:xfrm>
        </p:grpSpPr>
        <p:sp>
          <p:nvSpPr>
            <p:cNvPr id="52" name=""/>
            <p:cNvSpPr/>
            <p:nvPr/>
          </p:nvSpPr>
          <p:spPr>
            <a:xfrm>
              <a:off x="5486400" y="1752480"/>
              <a:ext cx="91440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02040" y="14670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81440" y="1467000"/>
              <a:ext cx="1264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[n]=x(n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4876560" y="1752480"/>
              <a:ext cx="2133720" cy="685800"/>
              <a:chOff x="4876560" y="1752480"/>
              <a:chExt cx="2133720" cy="685800"/>
            </a:xfrm>
          </p:grpSpPr>
          <p:cxnSp>
            <p:nvCxnSpPr>
              <p:cNvPr id="56" name=""/>
              <p:cNvCxnSpPr>
                <a:endCxn id="52" idx="1"/>
              </p:cNvCxnSpPr>
              <p:nvPr/>
            </p:nvCxnSpPr>
            <p:spPr>
              <a:xfrm>
                <a:off x="4876560" y="1942920"/>
                <a:ext cx="61020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7" name=""/>
              <p:cNvCxnSpPr/>
              <p:nvPr/>
            </p:nvCxnSpPr>
            <p:spPr>
              <a:xfrm flipV="1">
                <a:off x="5943240" y="2133360"/>
                <a:ext cx="1080" cy="305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8" name=""/>
              <p:cNvCxnSpPr/>
              <p:nvPr/>
            </p:nvCxnSpPr>
            <p:spPr>
              <a:xfrm>
                <a:off x="6400440" y="1904760"/>
                <a:ext cx="610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9" name=""/>
              <p:cNvSpPr/>
              <p:nvPr/>
            </p:nvSpPr>
            <p:spPr>
              <a:xfrm>
                <a:off x="5564160" y="1752480"/>
                <a:ext cx="82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-to-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5570280" y="2514600"/>
              <a:ext cx="808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1/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533520" y="4343400"/>
          <a:ext cx="2692440" cy="88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520" y="4343400"/>
                    <a:ext cx="26924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4533840" y="1219320"/>
            <a:ext cx="3272040" cy="19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409572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00880" y="38098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[n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38098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800240" y="4095720"/>
            <a:ext cx="2133720" cy="685800"/>
            <a:chOff x="4800240" y="4095720"/>
            <a:chExt cx="2133720" cy="685800"/>
          </a:xfrm>
        </p:grpSpPr>
        <p:cxnSp>
          <p:nvCxnSpPr>
            <p:cNvPr id="68" name=""/>
            <p:cNvCxnSpPr>
              <a:endCxn id="64" idx="1"/>
            </p:cNvCxnSpPr>
            <p:nvPr/>
          </p:nvCxnSpPr>
          <p:spPr>
            <a:xfrm>
              <a:off x="4800240" y="4286160"/>
              <a:ext cx="61020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/>
            <p:nvPr/>
          </p:nvCxnSpPr>
          <p:spPr>
            <a:xfrm flipV="1">
              <a:off x="5866920" y="447660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/>
            <p:nvPr/>
          </p:nvCxnSpPr>
          <p:spPr>
            <a:xfrm>
              <a:off x="6324120" y="4248000"/>
              <a:ext cx="610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" name=""/>
            <p:cNvSpPr/>
            <p:nvPr/>
          </p:nvSpPr>
          <p:spPr>
            <a:xfrm>
              <a:off x="5487840" y="40957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-to-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493960" y="4857840"/>
            <a:ext cx="808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/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33840" y="3581280"/>
            <a:ext cx="3272040" cy="19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19:41:39Z</dcterms:created>
  <dc:creator>rajbabu</dc:creator>
  <dc:description/>
  <dc:language>en-US</dc:language>
  <cp:lastModifiedBy>rajbabu</cp:lastModifiedBy>
  <dcterms:modified xsi:type="dcterms:W3CDTF">2002-06-06T21:42:22Z</dcterms:modified>
  <cp:revision>8</cp:revision>
  <dc:subject/>
  <dc:title>PowerPoint Presentation</dc:title>
</cp:coreProperties>
</file>