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58D-A434-4A6F-BB1B-AFBEBE42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3BE-2221-4632-B80B-659B469B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A5C-8940-485E-A4B3-03E58987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399-DFE4-4D67-AB1D-DCDF64F4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3ED-8226-4A7F-BC88-CF6F2FA6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3CF-4CB2-40B1-B664-FB61CD5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E9F-46DF-44D9-96F1-FC4780FF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F77-CF77-4B3B-A877-BF44E84B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576-4734-40FD-828A-1D2217C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C68-626D-4B91-9F7E-0C74106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A55-6880-4223-A4F6-612055F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2F8-B6E3-42BF-B9EF-960016D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5A9-ACD5-48DB-BA4A-67998521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762120"/>
          <a:ext cx="19684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1968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9480" y="1371600"/>
          <a:ext cx="27687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371600"/>
                    <a:ext cx="2768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5800" y="2133720"/>
          <a:ext cx="24256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133720"/>
                    <a:ext cx="24256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2590920"/>
          <a:ext cx="2616480" cy="15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590920"/>
                    <a:ext cx="261648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520" y="4724280"/>
          <a:ext cx="208260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724280"/>
                    <a:ext cx="20826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4802040" y="1467000"/>
            <a:ext cx="2943720" cy="1453320"/>
            <a:chOff x="4802040" y="1467000"/>
            <a:chExt cx="2943720" cy="1453320"/>
          </a:xfrm>
        </p:grpSpPr>
        <p:sp>
          <p:nvSpPr>
            <p:cNvPr id="52" name=""/>
            <p:cNvSpPr/>
            <p:nvPr/>
          </p:nvSpPr>
          <p:spPr>
            <a:xfrm>
              <a:off x="5486400" y="1752480"/>
              <a:ext cx="9144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2040" y="146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81440" y="1467000"/>
              <a:ext cx="1264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[n]=x(n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6560" y="1752480"/>
              <a:ext cx="2133720" cy="685800"/>
              <a:chOff x="4876560" y="1752480"/>
              <a:chExt cx="2133720" cy="685800"/>
            </a:xfrm>
          </p:grpSpPr>
          <p:cxnSp>
            <p:nvCxnSpPr>
              <p:cNvPr id="56" name=""/>
              <p:cNvCxnSpPr>
                <a:endCxn id="52" idx="1"/>
              </p:cNvCxnSpPr>
              <p:nvPr/>
            </p:nvCxnSpPr>
            <p:spPr>
              <a:xfrm>
                <a:off x="4876560" y="1942920"/>
                <a:ext cx="61020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7" name=""/>
              <p:cNvCxnSpPr/>
              <p:nvPr/>
            </p:nvCxnSpPr>
            <p:spPr>
              <a:xfrm flipV="1">
                <a:off x="5943240" y="2133360"/>
                <a:ext cx="108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" name=""/>
              <p:cNvCxnSpPr/>
              <p:nvPr/>
            </p:nvCxnSpPr>
            <p:spPr>
              <a:xfrm>
                <a:off x="6400440" y="1904760"/>
                <a:ext cx="61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" name=""/>
              <p:cNvSpPr/>
              <p:nvPr/>
            </p:nvSpPr>
            <p:spPr>
              <a:xfrm>
                <a:off x="5564160" y="17524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-to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570280" y="2514600"/>
              <a:ext cx="808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1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685800" y="5334120"/>
          <a:ext cx="2692440" cy="88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334120"/>
                    <a:ext cx="26924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33840" y="121932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095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0880" y="3809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[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809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00240" y="4095720"/>
            <a:ext cx="2133720" cy="685800"/>
            <a:chOff x="4800240" y="4095720"/>
            <a:chExt cx="2133720" cy="685800"/>
          </a:xfrm>
        </p:grpSpPr>
        <p:cxnSp>
          <p:nvCxnSpPr>
            <p:cNvPr id="68" name=""/>
            <p:cNvCxnSpPr>
              <a:endCxn id="64" idx="1"/>
            </p:cNvCxnSpPr>
            <p:nvPr/>
          </p:nvCxnSpPr>
          <p:spPr>
            <a:xfrm>
              <a:off x="4800240" y="4286160"/>
              <a:ext cx="6102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/>
            <p:nvPr/>
          </p:nvCxnSpPr>
          <p:spPr>
            <a:xfrm flipV="1">
              <a:off x="5866920" y="447660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/>
            <p:nvPr/>
          </p:nvCxnSpPr>
          <p:spPr>
            <a:xfrm>
              <a:off x="6324120" y="424800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487840" y="4095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-to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93960" y="4857840"/>
            <a:ext cx="8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358128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9:41:39Z</dcterms:created>
  <dc:creator>rajbabu</dc:creator>
  <dc:description/>
  <dc:language>en-US</dc:language>
  <cp:lastModifiedBy>rajbabu</cp:lastModifiedBy>
  <dcterms:modified xsi:type="dcterms:W3CDTF">2002-07-09T22:01:13Z</dcterms:modified>
  <cp:revision>11</cp:revision>
  <dc:subject/>
  <dc:title>PowerPoint Presentation</dc:title>
</cp:coreProperties>
</file>