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497C-311C-4D55-B80A-D067FAA3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F40-5F35-4089-9C49-6598C356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6E30-2BB5-4585-8789-0CAF1D0B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8CCC-2CD1-4053-AC5A-472F1F8B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A2D0-927A-46CA-8EF3-0CCFEF7B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1501-BCF3-413C-A06C-7689879A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F54-B0F9-4B66-9AD6-6EE3E9F4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4341-FDA4-4FE3-949A-A059F68A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CD7-6D01-443F-8B7D-77B6CE7A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A6BB-443B-467B-B7BA-81B8C35F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649D-F07C-437B-AD37-AECE237A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8E8-053A-4C19-BFBC-5CAE7C3F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11CB-10A1-4624-9CCB-DADE2DB7D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685800"/>
          <a:ext cx="4800600" cy="15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48006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90600" y="2666880"/>
          <a:ext cx="1811160" cy="5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0600" y="2666880"/>
                    <a:ext cx="18111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33520" y="3505320"/>
          <a:ext cx="5029200" cy="80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505320"/>
                    <a:ext cx="502920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33520" y="4419720"/>
          <a:ext cx="1676160" cy="46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419720"/>
                    <a:ext cx="16761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85800" y="5334120"/>
          <a:ext cx="2590920" cy="49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5334120"/>
                    <a:ext cx="259092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838080" y="6095880"/>
          <a:ext cx="3276720" cy="44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8080" y="6095880"/>
                    <a:ext cx="327672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419720" y="4648320"/>
          <a:ext cx="4267080" cy="1333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19720" y="4648320"/>
                    <a:ext cx="426708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962520" y="2590920"/>
          <a:ext cx="4419360" cy="6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62520" y="2590920"/>
                    <a:ext cx="441936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65240" y="5181480"/>
          <a:ext cx="678348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5181480"/>
                    <a:ext cx="678348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219320" y="2819520"/>
          <a:ext cx="2895480" cy="194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819520"/>
                    <a:ext cx="2895480" cy="19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838080" y="2057400"/>
          <a:ext cx="4343400" cy="52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057400"/>
                    <a:ext cx="434340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914400" y="838080"/>
          <a:ext cx="2743200" cy="52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838080"/>
                    <a:ext cx="27432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20:04:31Z</dcterms:created>
  <dc:creator>rajbabu</dc:creator>
  <dc:description/>
  <dc:language>en-US</dc:language>
  <cp:lastModifiedBy>rajbabu</cp:lastModifiedBy>
  <dcterms:modified xsi:type="dcterms:W3CDTF">2002-08-08T20:44:58Z</dcterms:modified>
  <cp:revision>6</cp:revision>
  <dc:subject/>
  <dc:title>PowerPoint Presentation</dc:title>
</cp:coreProperties>
</file>