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F1F-3DFE-4E9F-9EF9-E21C57D2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1A4-E2BA-4910-8EE2-BB257203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A14-3112-4CB1-A426-897E62BD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0EF-6A84-42FA-9A98-EA672538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3F9-AE21-4D48-B19B-8AE8FB4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CEC-01AE-4891-BCB4-EEC57671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BD6-AA32-4015-A808-409D0B6B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3F5-A2FD-4785-9FF7-A259210D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851-E744-4C49-990B-623CA7CF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041-7CB5-4121-A535-29CB8EE3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B02-6EE6-4C3B-BDCB-2ED9594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C27-A192-48AD-ACD8-238305D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92DC-C655-4193-A2B4-8F772E78B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066680" y="1143000"/>
                <a:ext cx="1359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66680" y="1752480"/>
                <a:ext cx="1155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4038480"/>
                <a:ext cx="11304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k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43000" y="5410080"/>
                <a:ext cx="17017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38080" y="2971800"/>
                <a:ext cx="170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]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n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352680" y="1752480"/>
                <a:ext cx="1003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76720" y="2590920"/>
                <a:ext cx="1689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52680" y="4419720"/>
                <a:ext cx="20829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657600" y="5562720"/>
                <a:ext cx="10159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867280" y="609480"/>
                <a:ext cx="2527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477120" y="2590920"/>
                <a:ext cx="113004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43200" y="1905120"/>
            <a:ext cx="3897360" cy="28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08280" y="1927080"/>
            <a:ext cx="3897360" cy="2886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8280" y="1927080"/>
            <a:ext cx="389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8280" y="1927080"/>
            <a:ext cx="3897360" cy="2886120"/>
          </a:xfrm>
          <a:custGeom>
            <a:avLst/>
            <a:gdLst/>
            <a:ahLst/>
            <a:rect l="l" t="t" r="r" b="b"/>
            <a:pathLst>
              <a:path w="433" h="342">
                <a:moveTo>
                  <a:pt x="0" y="342"/>
                </a:moveTo>
                <a:lnTo>
                  <a:pt x="433" y="342"/>
                </a:lnTo>
                <a:lnTo>
                  <a:pt x="4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08280" y="1926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8280" y="4813200"/>
            <a:ext cx="389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08280" y="1926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5764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5764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8120" y="4836960"/>
            <a:ext cx="10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5928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928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2240" y="48369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5300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300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56240" y="4836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54640" y="47700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54640" y="1927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9640" y="48369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56280" y="47700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56280" y="1927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59520" y="4836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08280" y="46782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568920" y="46782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07480" y="4610160"/>
            <a:ext cx="10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8280" y="40194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568920" y="40194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3520" y="39513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08280" y="33703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568920" y="33703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40240" y="3301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08280" y="2711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568920" y="27115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45920" y="26449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08280" y="20541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68920" y="2054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40240" y="1986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08280" y="1927080"/>
            <a:ext cx="389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08280" y="1927080"/>
            <a:ext cx="3897360" cy="2886120"/>
          </a:xfrm>
          <a:custGeom>
            <a:avLst/>
            <a:gdLst/>
            <a:ahLst/>
            <a:rect l="l" t="t" r="r" b="b"/>
            <a:pathLst>
              <a:path w="433" h="342">
                <a:moveTo>
                  <a:pt x="0" y="342"/>
                </a:moveTo>
                <a:lnTo>
                  <a:pt x="433" y="342"/>
                </a:lnTo>
                <a:lnTo>
                  <a:pt x="4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08280" y="1926720"/>
            <a:ext cx="1440" cy="288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1840" y="498168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l 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987560" y="32252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inary 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75360" y="1733400"/>
            <a:ext cx="86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x z-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07000" y="2408400"/>
            <a:ext cx="81000" cy="759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26000" y="3344760"/>
            <a:ext cx="54000" cy="507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626000" y="3344760"/>
            <a:ext cx="54000" cy="507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57640" y="2054160"/>
            <a:ext cx="2798640" cy="2624040"/>
          </a:xfrm>
          <a:custGeom>
            <a:avLst/>
            <a:gdLst/>
            <a:ahLst/>
            <a:rect l="l" t="t" r="r" b="b"/>
            <a:pathLst>
              <a:path w="1763" h="1653">
                <a:moveTo>
                  <a:pt x="1763" y="829"/>
                </a:moveTo>
                <a:lnTo>
                  <a:pt x="1757" y="749"/>
                </a:lnTo>
                <a:lnTo>
                  <a:pt x="1746" y="675"/>
                </a:lnTo>
                <a:lnTo>
                  <a:pt x="1729" y="606"/>
                </a:lnTo>
                <a:lnTo>
                  <a:pt x="1706" y="531"/>
                </a:lnTo>
                <a:lnTo>
                  <a:pt x="1672" y="462"/>
                </a:lnTo>
                <a:lnTo>
                  <a:pt x="1633" y="398"/>
                </a:lnTo>
                <a:lnTo>
                  <a:pt x="1587" y="335"/>
                </a:lnTo>
                <a:lnTo>
                  <a:pt x="1536" y="276"/>
                </a:lnTo>
                <a:lnTo>
                  <a:pt x="1485" y="223"/>
                </a:lnTo>
                <a:lnTo>
                  <a:pt x="1423" y="175"/>
                </a:lnTo>
                <a:lnTo>
                  <a:pt x="1355" y="133"/>
                </a:lnTo>
                <a:lnTo>
                  <a:pt x="1287" y="90"/>
                </a:lnTo>
                <a:lnTo>
                  <a:pt x="1213" y="64"/>
                </a:lnTo>
                <a:lnTo>
                  <a:pt x="1139" y="37"/>
                </a:lnTo>
                <a:lnTo>
                  <a:pt x="1060" y="16"/>
                </a:lnTo>
                <a:lnTo>
                  <a:pt x="981" y="5"/>
                </a:lnTo>
                <a:lnTo>
                  <a:pt x="901" y="0"/>
                </a:lnTo>
                <a:lnTo>
                  <a:pt x="822" y="0"/>
                </a:lnTo>
                <a:lnTo>
                  <a:pt x="742" y="10"/>
                </a:lnTo>
                <a:lnTo>
                  <a:pt x="663" y="26"/>
                </a:lnTo>
                <a:lnTo>
                  <a:pt x="584" y="48"/>
                </a:lnTo>
                <a:lnTo>
                  <a:pt x="510" y="74"/>
                </a:lnTo>
                <a:lnTo>
                  <a:pt x="442" y="111"/>
                </a:lnTo>
                <a:lnTo>
                  <a:pt x="374" y="149"/>
                </a:lnTo>
                <a:lnTo>
                  <a:pt x="312" y="196"/>
                </a:lnTo>
                <a:lnTo>
                  <a:pt x="249" y="250"/>
                </a:lnTo>
                <a:lnTo>
                  <a:pt x="198" y="303"/>
                </a:lnTo>
                <a:lnTo>
                  <a:pt x="147" y="366"/>
                </a:lnTo>
                <a:lnTo>
                  <a:pt x="107" y="430"/>
                </a:lnTo>
                <a:lnTo>
                  <a:pt x="73" y="499"/>
                </a:lnTo>
                <a:lnTo>
                  <a:pt x="45" y="568"/>
                </a:lnTo>
                <a:lnTo>
                  <a:pt x="22" y="637"/>
                </a:lnTo>
                <a:lnTo>
                  <a:pt x="5" y="712"/>
                </a:lnTo>
                <a:lnTo>
                  <a:pt x="0" y="786"/>
                </a:lnTo>
                <a:lnTo>
                  <a:pt x="0" y="866"/>
                </a:lnTo>
                <a:lnTo>
                  <a:pt x="5" y="940"/>
                </a:lnTo>
                <a:lnTo>
                  <a:pt x="22" y="1015"/>
                </a:lnTo>
                <a:lnTo>
                  <a:pt x="45" y="1084"/>
                </a:lnTo>
                <a:lnTo>
                  <a:pt x="73" y="1153"/>
                </a:lnTo>
                <a:lnTo>
                  <a:pt x="107" y="1222"/>
                </a:lnTo>
                <a:lnTo>
                  <a:pt x="147" y="1286"/>
                </a:lnTo>
                <a:lnTo>
                  <a:pt x="198" y="1350"/>
                </a:lnTo>
                <a:lnTo>
                  <a:pt x="249" y="1403"/>
                </a:lnTo>
                <a:lnTo>
                  <a:pt x="312" y="1456"/>
                </a:lnTo>
                <a:lnTo>
                  <a:pt x="374" y="1504"/>
                </a:lnTo>
                <a:lnTo>
                  <a:pt x="442" y="1541"/>
                </a:lnTo>
                <a:lnTo>
                  <a:pt x="510" y="1578"/>
                </a:lnTo>
                <a:lnTo>
                  <a:pt x="584" y="1605"/>
                </a:lnTo>
                <a:lnTo>
                  <a:pt x="663" y="1626"/>
                </a:lnTo>
                <a:lnTo>
                  <a:pt x="742" y="1642"/>
                </a:lnTo>
                <a:lnTo>
                  <a:pt x="822" y="1653"/>
                </a:lnTo>
                <a:lnTo>
                  <a:pt x="901" y="1653"/>
                </a:lnTo>
                <a:lnTo>
                  <a:pt x="981" y="1647"/>
                </a:lnTo>
                <a:lnTo>
                  <a:pt x="1060" y="1637"/>
                </a:lnTo>
                <a:lnTo>
                  <a:pt x="1139" y="1615"/>
                </a:lnTo>
                <a:lnTo>
                  <a:pt x="1213" y="1589"/>
                </a:lnTo>
                <a:lnTo>
                  <a:pt x="1287" y="1562"/>
                </a:lnTo>
                <a:lnTo>
                  <a:pt x="1355" y="1520"/>
                </a:lnTo>
                <a:lnTo>
                  <a:pt x="1423" y="1477"/>
                </a:lnTo>
                <a:lnTo>
                  <a:pt x="1485" y="1429"/>
                </a:lnTo>
                <a:lnTo>
                  <a:pt x="1536" y="1376"/>
                </a:lnTo>
                <a:lnTo>
                  <a:pt x="1587" y="1318"/>
                </a:lnTo>
                <a:lnTo>
                  <a:pt x="1633" y="1254"/>
                </a:lnTo>
                <a:lnTo>
                  <a:pt x="1672" y="1190"/>
                </a:lnTo>
                <a:lnTo>
                  <a:pt x="1706" y="1121"/>
                </a:lnTo>
                <a:lnTo>
                  <a:pt x="1729" y="1047"/>
                </a:lnTo>
                <a:lnTo>
                  <a:pt x="1746" y="978"/>
                </a:lnTo>
                <a:lnTo>
                  <a:pt x="1757" y="903"/>
                </a:lnTo>
                <a:lnTo>
                  <a:pt x="1763" y="829"/>
                </a:ln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08280" y="3370320"/>
            <a:ext cx="390672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653000" y="1926720"/>
            <a:ext cx="1440" cy="28940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3920" y="3133800"/>
            <a:ext cx="99720" cy="236520"/>
          </a:xfrm>
          <a:custGeom>
            <a:avLst/>
            <a:gdLst/>
            <a:ahLst/>
            <a:rect l="l" t="t" r="r" b="b"/>
            <a:pathLst>
              <a:path w="63" h="149">
                <a:moveTo>
                  <a:pt x="63" y="149"/>
                </a:moveTo>
                <a:lnTo>
                  <a:pt x="63" y="106"/>
                </a:lnTo>
                <a:lnTo>
                  <a:pt x="57" y="101"/>
                </a:lnTo>
                <a:lnTo>
                  <a:pt x="57" y="85"/>
                </a:lnTo>
                <a:lnTo>
                  <a:pt x="51" y="80"/>
                </a:lnTo>
                <a:lnTo>
                  <a:pt x="51" y="69"/>
                </a:lnTo>
                <a:lnTo>
                  <a:pt x="40" y="58"/>
                </a:lnTo>
                <a:lnTo>
                  <a:pt x="40" y="48"/>
                </a:lnTo>
                <a:lnTo>
                  <a:pt x="29" y="37"/>
                </a:lnTo>
                <a:lnTo>
                  <a:pt x="29" y="32"/>
                </a:lnTo>
                <a:lnTo>
                  <a:pt x="17" y="21"/>
                </a:lnTo>
                <a:lnTo>
                  <a:pt x="17" y="16"/>
                </a:lnTo>
                <a:lnTo>
                  <a:pt x="12" y="11"/>
                </a:lnTo>
                <a:lnTo>
                  <a:pt x="6" y="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dash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80000" y="2500200"/>
            <a:ext cx="900000" cy="84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0920" y="2451240"/>
            <a:ext cx="7308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2" y="31"/>
                </a:moveTo>
                <a:lnTo>
                  <a:pt x="0" y="21"/>
                </a:lnTo>
                <a:lnTo>
                  <a:pt x="46" y="0"/>
                </a:lnTo>
                <a:lnTo>
                  <a:pt x="23" y="42"/>
                </a:lnTo>
                <a:lnTo>
                  <a:pt x="1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0920" y="2451240"/>
            <a:ext cx="7308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2" y="31"/>
                </a:moveTo>
                <a:lnTo>
                  <a:pt x="0" y="21"/>
                </a:lnTo>
                <a:lnTo>
                  <a:pt x="46" y="0"/>
                </a:lnTo>
                <a:lnTo>
                  <a:pt x="23" y="42"/>
                </a:lnTo>
                <a:lnTo>
                  <a:pt x="12" y="31"/>
                </a:lnTo>
                <a:lnTo>
                  <a:pt x="12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8954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971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8880" y="217188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6:15:16Z</dcterms:created>
  <dc:creator>rajbabu</dc:creator>
  <dc:description/>
  <dc:language>en-US</dc:language>
  <cp:lastModifiedBy>rajbabu</cp:lastModifiedBy>
  <dcterms:modified xsi:type="dcterms:W3CDTF">2002-05-09T20:45:11Z</dcterms:modified>
  <cp:revision>6</cp:revision>
  <dc:subject/>
  <dc:title>PowerPoint Presentation</dc:title>
</cp:coreProperties>
</file>