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3200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FD9E-37B9-4F9C-95D2-5EBD545E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6120" y="922320"/>
            <a:ext cx="310536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6120" y="1926720"/>
            <a:ext cx="310536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769B-4DBE-42A6-B45B-BBCCE3B6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9223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7680" y="9223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6120" y="19267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7680" y="19267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0C4E-669D-4983-B29A-F0E7C950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6120" y="922320"/>
            <a:ext cx="99972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26240" y="922320"/>
            <a:ext cx="99972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76360" y="922320"/>
            <a:ext cx="99972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6120" y="1926720"/>
            <a:ext cx="99972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26240" y="1926720"/>
            <a:ext cx="99972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76360" y="1926720"/>
            <a:ext cx="99972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CB5A-20B1-4B98-AD89-7FFE80C3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6120" y="922320"/>
            <a:ext cx="310536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11BD-2B70-4CDF-B224-FFABFC5A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6120" y="922320"/>
            <a:ext cx="3105360" cy="1922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D67E-DBE2-4E0C-8C08-A3A65197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6120" y="922320"/>
            <a:ext cx="1515240" cy="1922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7680" y="922320"/>
            <a:ext cx="1515240" cy="1922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2979-4262-4A2E-9110-8EBDD087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3DC1-B6D0-47D0-977C-D7B4EE70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6120" y="284040"/>
            <a:ext cx="31053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101E-ED69-44B2-AA04-65171C8B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6120" y="9223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7680" y="922320"/>
            <a:ext cx="1515240" cy="1922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6120" y="19267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755E-B9C0-4E28-8CD6-AA4DBD49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6120" y="922320"/>
            <a:ext cx="1515240" cy="1922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7680" y="9223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7680" y="19267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5685-0608-471B-834C-0E13453F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6120" y="9223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7680" y="9223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6120" y="1926720"/>
            <a:ext cx="310536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4B81-D937-4CF6-899F-D7085355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6120" y="922320"/>
            <a:ext cx="3105360" cy="1922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marL="138240" indent="-1382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01680" indent="-11592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65120" indent="-921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649440" indent="-9396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835200" indent="-92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835200" indent="-92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835200" indent="-92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5760" y="2917440"/>
            <a:ext cx="762120" cy="2113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Autofit/>
          </a:bodyPr>
          <a:lstStyle>
            <a:lvl1pPr indent="0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7760" y="2917440"/>
            <a:ext cx="1162080" cy="2113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Autofit/>
          </a:bodyPr>
          <a:lstStyle>
            <a:lvl1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19000" y="2917440"/>
            <a:ext cx="762120" cy="2113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Autofit/>
          </a:bodyPr>
          <a:lstStyle>
            <a:lvl1pPr indent="0" algn="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fld id="{E33903DF-ED55-4C6E-9DC2-33409678C2A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914400"/>
            <a:ext cx="761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1143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1143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90720" y="2438280"/>
            <a:ext cx="1676160" cy="457200"/>
            <a:chOff x="990720" y="2438280"/>
            <a:chExt cx="1676160" cy="457200"/>
          </a:xfrm>
        </p:grpSpPr>
        <p:sp>
          <p:nvSpPr>
            <p:cNvPr id="45" name=""/>
            <p:cNvSpPr/>
            <p:nvPr/>
          </p:nvSpPr>
          <p:spPr>
            <a:xfrm>
              <a:off x="1447920" y="2438280"/>
              <a:ext cx="761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90720" y="266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09680" y="266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219320" y="457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904680" y="182880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904680" y="45720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457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457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1143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143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5840" y="669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9080" y="1370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79280" y="669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79280" y="1370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2209680"/>
            <a:ext cx="335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4080" y="2525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02:22:58Z</dcterms:created>
  <dc:creator>Jordan Rosenthal</dc:creator>
  <dc:description/>
  <dc:language>en-US</dc:language>
  <cp:lastModifiedBy>rajbabu</cp:lastModifiedBy>
  <dcterms:modified xsi:type="dcterms:W3CDTF">2002-07-23T14:38:47Z</dcterms:modified>
  <cp:revision>16</cp:revision>
  <dc:subject/>
  <dc:title>No Slide Title</dc:title>
</cp:coreProperties>
</file>